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png" ContentType="image/png"/>
  <Override PartName="/ppt/media/image1.jpeg" ContentType="image/jpeg"/>
  <Override PartName="/ppt/media/cashreg.wav" ContentType="audio/x-wav"/>
  <Override PartName="/ppt/media/image9.jpeg" ContentType="image/jpeg"/>
  <Override PartName="/ppt/media/breeze.wav" ContentType="audio/x-wav"/>
  <Override PartName="/ppt/media/voltage.wav" ContentType="audio/x-wav"/>
  <Override PartName="/ppt/media/image4.png" ContentType="image/png"/>
  <Override PartName="/ppt/media/image8.png" ContentType="image/png"/>
  <Override PartName="/ppt/media/image5.png" ContentType="image/png"/>
  <Override PartName="/ppt/media/arrow.wav" ContentType="audio/x-wav"/>
  <Override PartName="/ppt/media/drumroll.wav" ContentType="audio/x-wav"/>
  <Override PartName="/ppt/media/wind.wav" ContentType="audio/x-wav"/>
  <Override PartName="/ppt/media/image6.png" ContentType="image/png"/>
  <Override PartName="/ppt/media/image2.jpeg" ContentType="image/jpeg"/>
  <Override PartName="/ppt/media/image3.png" ContentType="image/png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79F2-BE70-45F6-A9A5-7F69DE6B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AB71-60A6-49B1-9892-116B5DCC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2405-8E09-4CFB-93D6-8D016187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C576-01DB-4A22-8D8E-C252C397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FD49-F34B-49B1-8F13-16F31BA4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CA00-086D-4E0B-ADDE-AA13A4AC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3046-1287-46C7-8A19-86087FA8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36AA-0345-42FB-8E81-C3F8675E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F5FD-2FDA-48F1-8316-008586C2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D3D8-F444-4E39-8683-C1345E50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B2E4-5F14-4996-AA9D-DE4E13A4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B50B-00AA-4DE6-AF47-78FF0FD9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03FA-F3BE-41EF-91D9-AC0B339DD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row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breeze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type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919080" y="-281160"/>
            <a:ext cx="10982160" cy="742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Similarity in </a:t>
            </a: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Tri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y: Ralphie, Kayla, Henry, and J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triangl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an be proven simil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3 different theorems that prove </a:t>
            </a: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triang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mi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nap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A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gnet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gneto"/>
              </a:rPr>
              <a:t>S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A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Magneto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gnet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gneto"/>
              </a:rPr>
              <a:t>SIDE-SIDE-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nap ITC"/>
              </a:rPr>
              <a:t>ANGLE-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wo angles of one </a:t>
            </a: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trian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ongruent to two of another triangle, then the two </a:t>
            </a: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triang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simi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24280" y="3027240"/>
            <a:ext cx="4419720" cy="3830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120" y="3075120"/>
            <a:ext cx="38862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gneto"/>
              </a:rPr>
              <a:t>Side</a:t>
            </a: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nap ITC"/>
              </a:rPr>
              <a:t>Ang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Magneto"/>
              </a:rPr>
              <a:t>Sid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or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angle of one </a:t>
            </a: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trian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ngruent to an angle of the second </a:t>
            </a: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trian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 sides including the two angles are proportional then  the  </a:t>
            </a: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triang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simila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848200" y="3505320"/>
            <a:ext cx="3295800" cy="3352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sasasasa.gif"/>
          <p:cNvPicPr/>
          <p:nvPr/>
        </p:nvPicPr>
        <p:blipFill>
          <a:blip r:embed="rId2"/>
          <a:stretch/>
        </p:blipFill>
        <p:spPr>
          <a:xfrm>
            <a:off x="2209680" y="3559320"/>
            <a:ext cx="333396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4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4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4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gneto"/>
              </a:rPr>
              <a:t>SIDE SIDE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sides of two </a:t>
            </a: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triang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in proportion, then the </a:t>
            </a: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triang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simi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42040" y="2590920"/>
            <a:ext cx="2901960" cy="4267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523880" y="3106800"/>
            <a:ext cx="468648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81640" y="0"/>
            <a:ext cx="3762360" cy="5257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video!! ^_^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 video to further teach you about TRIANGLE simi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spike.com/profile/NutshellMath/video/27244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3:58:32Z</dcterms:created>
  <dc:creator>102982</dc:creator>
  <dc:description/>
  <dc:language>en-US</dc:language>
  <cp:lastModifiedBy>102982</cp:lastModifiedBy>
  <dcterms:modified xsi:type="dcterms:W3CDTF">2008-04-21T14:39:20Z</dcterms:modified>
  <cp:revision>6</cp:revision>
  <dc:subject/>
  <dc:title>Similarity in Triangles</dc:title>
</cp:coreProperties>
</file>